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AD4-7EDB-4B44-B299-DB4A72E0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FC9-475D-4C7A-8B4E-B290D51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C2193-61A2-4E80-8FD8-8B96E315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12920-7CAE-4205-9BBD-4AE402D3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A73BA-6594-4639-BB17-5A33D2F0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69BFA-352C-4BE3-BE8A-1D92E0F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D9E27-F285-401A-B68E-6DA62F3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1B32-EDE3-4A20-AFB1-BBC3F64D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B799F-F5B1-4F18-BC10-F0C44C1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88B2D-0870-48D4-9FF8-A6EAC2F0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82B35-C833-4266-B8EB-91511F8B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9CE01-FCEB-43AF-883A-8CE28183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A57-EEFE-4BF3-8F17-8CAF5874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9C42C-91F0-496A-A5D1-D1F87313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B93AF-9F6B-4774-B0A9-EEE0C73C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C65D5-B078-497B-A126-E367E5F8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D1296-95E8-42ED-85B3-49F8F753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C694E-18BB-414E-A954-00620236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A6C2A-78F2-48A6-B078-10431696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DE6F1-6881-408A-A393-B3F6198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D2F2A-1236-4DA0-AFEE-74302BA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12DE6-165D-4438-9C20-9026AFF1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F1A6E-95A5-4074-ACE0-4CE94BCC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BFA-E73D-47FD-A96A-596D5430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BC87A-7E33-4201-A5F7-FAD0BA70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B8F2E-EC49-4104-818F-78432E5C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D706A-1F99-48BD-89E6-2754A05C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E1CB9-F59E-4FBA-B29B-FAF24824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70956-DD74-45F6-A334-54327B12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D3517-5255-4578-952B-9D0AA0E8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A0F88-8057-41B1-B6E2-84486FEE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03BC2-A8D6-4885-8376-FE1B1C2B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4F7DA-77CF-477E-AA23-B56F76FD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76E8C-786C-4D98-A82C-F45AC9F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0DD4-1D0D-4324-BBB3-1D3F498C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25BCF-D965-4FF7-A2B2-327EF6FC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1FDAE-2C5A-4658-B1BD-70A3791D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934A0-A515-4408-BE19-893C67B1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A0305-6CEB-401C-B2AD-9CE9B296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E0AC5-4880-471D-A47E-F41AE096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DFA29-0D74-4DEA-903F-0973744C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942F2-0C94-490F-BCB7-2B04D9AF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9885F-BDD5-4AA6-B6EF-5B2FD0E8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9E377-F04A-4B5F-B8B6-BF0B3CC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6C64C-BDB1-4F01-AB2F-ED71AB5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F5DC-2D16-47F0-8748-2B001F35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0F1B1-0E1E-4A2C-819E-639CB921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6340B-496D-40DF-ABB0-7ABC4A4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B6708-846C-469B-AF96-BD5325A4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551AA-F325-4F79-B2C2-60B2D476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B7C62-C66C-4768-9205-308F0D72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954E0-2903-4E5E-90F7-10D3F07B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AFA96-52C5-496E-85CC-AECE7812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81492-EA05-4D29-9BFA-2C2FF182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2B5AF-51D3-431F-A76B-0FCFFE6F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6157A-A3AD-4E9D-BBB9-B160D880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0733-4E30-4CF6-A51C-71D9A464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96D8C-2E50-4300-80DD-5060DB38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13A89-1BC4-4966-9A6B-727A109D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36F0B-8389-45EF-A5AF-F5CE876F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C04B7-DF26-4323-8BF3-C273B23A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ADECD-6219-4EBC-8197-4E5E41C1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20E7D-D2CF-40E4-98F5-47013B7C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ED428-C58E-4322-968E-C252FC48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92F4-E45C-4AE7-92F6-2A61AA1F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1BD6-92C2-49EA-A4C1-B4F0253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5AB3-B43C-4B9F-BC3A-BA5FA283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ED54-E1A6-4068-A216-669814B1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38C-6499-498F-A8AB-D8139C0C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BEEF-0DDA-4E69-96AA-F3DED73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8368-3125-4ECE-A4F6-2F6938FD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4D66-0A9E-4E60-9E7B-55EC896C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30D0-3A93-45E5-B6EC-0DD4F7B3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69E2-43DF-40B2-B67D-D625B64B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5E63-BABC-4E0B-B665-3C25609B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7F2F-DBFE-4270-92FC-6539A360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8376-11A5-464F-A235-06327C60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EF38-7704-4CB2-B818-01A144F3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16BC-9494-4231-8F37-F7AE2F05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7C1-A6C3-45DD-9A5B-01E8E87C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6298-D547-4B31-85D1-E28430CF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8C42-4C62-4875-83F4-85A6D1E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8576-5AE7-4D8E-BD36-4C1E2AA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13D0-BE70-41D2-A5F0-B0FD887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2A75-278E-4D8E-8AC5-15E24111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0CBF-A24B-4E80-A200-4F5D30D6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5513-8CF8-4ECA-91C6-D8CD47F0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F76D-FB4A-4FA5-B429-CED1E7C2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4038-2EA2-4743-9147-ADAE38FD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01D1-BAC0-4C5B-8AF1-5378E2D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86B-65AA-4CDF-A1DF-8743C8D3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5990-F9AF-4108-AC16-106FCA7A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301D-A7A9-4EA9-99C4-05AAC0A1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23D7-AA96-40F6-818C-DCE00BE1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4AA1D-1F2C-48FC-B593-6D2AF1BE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D537-7644-408A-A18C-914D1371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FD70-F1F4-4A9D-A258-5869BFA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6B8C-6AE5-4633-B1E6-6A35E902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9234-8206-447D-98C2-A14DE395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476F-BC37-41A2-A12C-DD759612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D7BD-2C21-4BE7-8495-B8FEC28B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277-95F9-4C28-AEE1-30163BF8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5BAB7-5B59-405F-85A1-09A676A2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607B6-32A5-464D-9C3C-235FFCCB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B0E8-50CD-4930-9A6E-51038C74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BB23E-BAF6-4409-AEAA-FD07E004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B23D6-42B2-434D-8BE2-503FA5EE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902C-00AC-4DD8-ACB9-243BCCB9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A8ADB-222A-47AB-8F0C-35AF5798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87231-E4C1-411D-A25E-CC33A6DF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5ECB-EC8D-40AF-873B-180E652E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0FEB6-5F4C-4B07-B787-715E9A93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284-B31C-4DDE-A3CB-AA6EBAC6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DDF0-FC0E-4244-81D4-31F37579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EAA27-83B1-4D22-8B97-452333E2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8433-E923-4D65-B429-C48CE870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A6FFD-1530-4BA6-A501-F954075E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F65E3-A68A-427E-BCB0-7DE1DAC1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7F0F0-3C92-4FE3-A599-9293A745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26BF5-3B94-43D3-885C-8C0C8FE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E2B74-DFE4-4927-AB6F-05E02070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A906C-E107-442E-9455-DAC97A6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3451F-0BAF-440C-9AF0-703582A2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E00-5BF4-46B7-B013-D617963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B707-8DFA-4451-B795-E0964F97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F089E-0899-4C73-9A5E-EEEA0123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6BA61-A29E-4C22-AC38-0BB4CFE5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89C5D-E4ED-4011-AC6A-81EBDEB5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18F2A-0FE7-4F17-A659-1700BF21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53393-5191-4108-BBD0-A7B88F3C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3963-F2C8-4EFB-B965-FD2D4AD3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A9B7-B50A-49DB-85C1-219950C5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E570F-C870-4A3B-AE16-823F50EA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65AE4-6A7A-4C8A-BF20-CCE58E95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506-2CA9-4B94-BA0D-B9EAD30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7EB19-60B6-404A-A8B0-AB05B1C1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2A5BF-979E-4889-98B2-61C384C5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DC5AF-1D2D-464F-86F3-5864B64F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EDE68-9EC3-4CE1-94F0-4F6CC6B2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9105A-9B99-4A3A-9E64-AA5F4698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3E32F-391F-4E65-91C8-C47A945D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D48C1-F683-45E4-878D-39B929D9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B7DB-0BD6-4E50-B622-01C383D2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13AA0-D414-45DD-96F6-A2F82F66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4F164-119B-44FE-AD2C-357828C1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3A3-A801-47BF-8FBD-DEAF085D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733320" y="731520"/>
            <a:ext cx="7801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3EABA-6738-4639-BF39-03CD3AF3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BDF30-3375-47EF-9599-6D68572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BC70D-209A-485F-884E-0578C71B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D7BD4-F03A-403B-87F8-406D7DAE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0A8D6-3E62-4D49-A01A-5245AC15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8280"/>
            <a:ext cx="40158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14B2C-3C84-473A-A88D-AE3DA69E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8280"/>
            <a:ext cx="2649600" cy="23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8FAFA-EAA9-44F5-BDD4-6A9442E2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4CA31-05AD-4CD1-9264-81F21569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BCBED-9F57-4DB3-9F7C-9E4E2D80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3320" y="722520"/>
            <a:ext cx="7801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9AA7F-09D4-400C-830E-30A793E6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uthuatphanmem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8B49-491B-4A7D-B829-D0D6243C06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80A-B26B-4226-92A4-9AA4889640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7791-E587-436A-9ABB-C3AF7AAF75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5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4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5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6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ACA5-0BE4-4EBE-82F0-3AC57265F1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4A43-BB96-497E-85F5-D714C87A93BA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A1E1-130E-4A61-A5C3-CA8A882C2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4EC2-7278-4FCB-8561-27253887D6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1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86B4-0A83-46C1-B502-7E9C329CFA1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91F0-7F88-4634-940A-CBAF6050B6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D6CD-7222-4119-BF68-2D9FC9833A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D18D-B46B-4A48-96F9-89D41439FF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35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5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7E26-B46E-48E5-9117-A40557A44C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3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04" name="Rectangle 28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Rectangle 29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06" name="Text Box 31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A30F-C52B-4AD3-9829-278D16ACFD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7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9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3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824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8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7b7e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9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7b7e7">
                  <a:alpha val="32156"/>
                </a:srgbClr>
              </a:gs>
              <a:gs pos="100000">
                <a:srgbClr val="37556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0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37d"/>
              </a:gs>
              <a:gs pos="50000">
                <a:srgbClr val="77b7e7"/>
              </a:gs>
              <a:gs pos="100000">
                <a:srgbClr val="40637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1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c7493"/>
              </a:gs>
              <a:gs pos="100000">
                <a:srgbClr val="77b7e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32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33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834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38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839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3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5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Freeform 4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33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0" name="Group 34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851" name="Oval 35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2" name="Oval 36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3" name="Oval 37"/>
            <p:cNvSpPr/>
            <p:nvPr/>
          </p:nvSpPr>
          <p:spPr>
            <a:xfrm>
              <a:off x="32688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4" name="Oval 38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5" name="Oval 39"/>
            <p:cNvSpPr/>
            <p:nvPr/>
          </p:nvSpPr>
          <p:spPr>
            <a:xfrm>
              <a:off x="3378240" y="38991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6" name="Text Box 40"/>
            <p:cNvSpPr/>
            <p:nvPr/>
          </p:nvSpPr>
          <p:spPr>
            <a:xfrm>
              <a:off x="36658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Oval 41"/>
            <p:cNvSpPr/>
            <p:nvPr/>
          </p:nvSpPr>
          <p:spPr>
            <a:xfrm rot="20826600">
              <a:off x="14731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58" name="Group 42"/>
            <p:cNvGrpSpPr/>
            <p:nvPr/>
          </p:nvGrpSpPr>
          <p:grpSpPr>
            <a:xfrm>
              <a:off x="1397160" y="3448080"/>
              <a:ext cx="1371240" cy="1441080"/>
              <a:chOff x="1397160" y="3448080"/>
              <a:chExt cx="1371240" cy="1441080"/>
            </a:xfrm>
          </p:grpSpPr>
          <p:sp>
            <p:nvSpPr>
              <p:cNvPr id="859" name="Oval 43"/>
              <p:cNvSpPr/>
              <p:nvPr/>
            </p:nvSpPr>
            <p:spPr>
              <a:xfrm>
                <a:off x="13971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0" name="Oval 44"/>
              <p:cNvSpPr/>
              <p:nvPr/>
            </p:nvSpPr>
            <p:spPr>
              <a:xfrm>
                <a:off x="14148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1" name="Oval 45"/>
              <p:cNvSpPr/>
              <p:nvPr/>
            </p:nvSpPr>
            <p:spPr>
              <a:xfrm>
                <a:off x="14281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2" name="Oval 46"/>
              <p:cNvSpPr/>
              <p:nvPr/>
            </p:nvSpPr>
            <p:spPr>
              <a:xfrm>
                <a:off x="14997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63" name="Text Box 47"/>
              <p:cNvSpPr/>
              <p:nvPr/>
            </p:nvSpPr>
            <p:spPr>
              <a:xfrm>
                <a:off x="16776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64" name="Oval 48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5" name="Oval 49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Oval 50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7" name="Oval 51"/>
            <p:cNvSpPr/>
            <p:nvPr/>
          </p:nvSpPr>
          <p:spPr>
            <a:xfrm>
              <a:off x="13953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8" name="Oval 52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Text Box 53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0" name="Oval 54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1" name="Oval 55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Oval 56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4" name="Oval 58"/>
            <p:cNvSpPr/>
            <p:nvPr/>
          </p:nvSpPr>
          <p:spPr>
            <a:xfrm>
              <a:off x="2736720" y="17049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Text Box 59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Date Placeholder 2"/>
          <p:cNvSpPr/>
          <p:nvPr/>
        </p:nvSpPr>
        <p:spPr>
          <a:xfrm>
            <a:off x="457200" y="6461280"/>
            <a:ext cx="2282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52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880" name="Oval 53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1" name="Group 54"/>
            <p:cNvGrpSpPr/>
            <p:nvPr/>
          </p:nvGrpSpPr>
          <p:grpSpPr>
            <a:xfrm>
              <a:off x="3659040" y="3126600"/>
              <a:ext cx="1907640" cy="1967400"/>
              <a:chOff x="3659040" y="3126600"/>
              <a:chExt cx="1907640" cy="1967400"/>
            </a:xfrm>
          </p:grpSpPr>
          <p:sp>
            <p:nvSpPr>
              <p:cNvPr id="882" name="Oval 55"/>
              <p:cNvSpPr/>
              <p:nvPr/>
            </p:nvSpPr>
            <p:spPr>
              <a:xfrm>
                <a:off x="3659040" y="3126600"/>
                <a:ext cx="1907640" cy="1967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83" name="Freeform 56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84" name="Text Box 57"/>
            <p:cNvSpPr/>
            <p:nvPr/>
          </p:nvSpPr>
          <p:spPr>
            <a:xfrm>
              <a:off x="3951000" y="38998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885" name="Group 58"/>
            <p:cNvGrpSpPr/>
            <p:nvPr/>
          </p:nvGrpSpPr>
          <p:grpSpPr>
            <a:xfrm>
              <a:off x="4224240" y="1861560"/>
              <a:ext cx="635760" cy="607320"/>
              <a:chOff x="4224240" y="1861560"/>
              <a:chExt cx="635760" cy="607320"/>
            </a:xfrm>
          </p:grpSpPr>
          <p:grpSp>
            <p:nvGrpSpPr>
              <p:cNvPr id="886" name="Group 59"/>
              <p:cNvGrpSpPr/>
              <p:nvPr/>
            </p:nvGrpSpPr>
            <p:grpSpPr>
              <a:xfrm>
                <a:off x="4224240" y="1861560"/>
                <a:ext cx="635760" cy="607320"/>
                <a:chOff x="4224240" y="1861560"/>
                <a:chExt cx="635760" cy="607320"/>
              </a:xfrm>
            </p:grpSpPr>
            <p:sp>
              <p:nvSpPr>
                <p:cNvPr id="887" name="Oval 60"/>
                <p:cNvSpPr/>
                <p:nvPr/>
              </p:nvSpPr>
              <p:spPr>
                <a:xfrm>
                  <a:off x="4224240" y="186156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61"/>
                <p:cNvSpPr/>
                <p:nvPr/>
              </p:nvSpPr>
              <p:spPr>
                <a:xfrm>
                  <a:off x="4296600" y="1871640"/>
                  <a:ext cx="489960" cy="228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9" name="Text Box 62"/>
              <p:cNvSpPr/>
              <p:nvPr/>
            </p:nvSpPr>
            <p:spPr>
              <a:xfrm>
                <a:off x="4364280" y="1954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0" name="Group 63"/>
            <p:cNvGrpSpPr/>
            <p:nvPr/>
          </p:nvGrpSpPr>
          <p:grpSpPr>
            <a:xfrm>
              <a:off x="3607200" y="4891320"/>
              <a:ext cx="339840" cy="308880"/>
              <a:chOff x="3607200" y="4891320"/>
              <a:chExt cx="339840" cy="308880"/>
            </a:xfrm>
          </p:grpSpPr>
          <p:sp>
            <p:nvSpPr>
              <p:cNvPr id="891" name="Oval 64"/>
              <p:cNvSpPr/>
              <p:nvPr/>
            </p:nvSpPr>
            <p:spPr>
              <a:xfrm rot="18226800">
                <a:off x="3633480" y="5051160"/>
                <a:ext cx="119520" cy="1278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92" name="Oval 65"/>
              <p:cNvSpPr/>
              <p:nvPr/>
            </p:nvSpPr>
            <p:spPr>
              <a:xfrm rot="18226800">
                <a:off x="3801240" y="4912200"/>
                <a:ext cx="119160" cy="1274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4646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66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894" name="Group 67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895" name="Oval 68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69"/>
                <p:cNvSpPr/>
                <p:nvPr/>
              </p:nvSpPr>
              <p:spPr>
                <a:xfrm>
                  <a:off x="3095640" y="5169600"/>
                  <a:ext cx="48996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Text Box 70"/>
              <p:cNvSpPr/>
              <p:nvPr/>
            </p:nvSpPr>
            <p:spPr>
              <a:xfrm>
                <a:off x="3157200" y="5279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71"/>
            <p:cNvGrpSpPr/>
            <p:nvPr/>
          </p:nvGrpSpPr>
          <p:grpSpPr>
            <a:xfrm>
              <a:off x="6134760" y="3126600"/>
              <a:ext cx="633240" cy="639720"/>
              <a:chOff x="6134760" y="3126600"/>
              <a:chExt cx="633240" cy="639720"/>
            </a:xfrm>
          </p:grpSpPr>
          <p:grpSp>
            <p:nvGrpSpPr>
              <p:cNvPr id="899" name="Group 72"/>
              <p:cNvGrpSpPr/>
              <p:nvPr/>
            </p:nvGrpSpPr>
            <p:grpSpPr>
              <a:xfrm>
                <a:off x="6134760" y="3126600"/>
                <a:ext cx="633240" cy="639720"/>
                <a:chOff x="6134760" y="3126600"/>
                <a:chExt cx="633240" cy="639720"/>
              </a:xfrm>
            </p:grpSpPr>
            <p:sp>
              <p:nvSpPr>
                <p:cNvPr id="900" name="Oval 73"/>
                <p:cNvSpPr/>
                <p:nvPr/>
              </p:nvSpPr>
              <p:spPr>
                <a:xfrm>
                  <a:off x="6134760" y="3126600"/>
                  <a:ext cx="633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74"/>
                <p:cNvSpPr/>
                <p:nvPr/>
              </p:nvSpPr>
              <p:spPr>
                <a:xfrm>
                  <a:off x="6206400" y="3136680"/>
                  <a:ext cx="48924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2" name="Text Box 75"/>
              <p:cNvSpPr/>
              <p:nvPr/>
            </p:nvSpPr>
            <p:spPr>
              <a:xfrm>
                <a:off x="625716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3" name="Group 76"/>
            <p:cNvGrpSpPr/>
            <p:nvPr/>
          </p:nvGrpSpPr>
          <p:grpSpPr>
            <a:xfrm>
              <a:off x="5566680" y="5164560"/>
              <a:ext cx="606240" cy="573480"/>
              <a:chOff x="5566680" y="5164560"/>
              <a:chExt cx="606240" cy="573480"/>
            </a:xfrm>
          </p:grpSpPr>
          <p:grpSp>
            <p:nvGrpSpPr>
              <p:cNvPr id="904" name="Group 77"/>
              <p:cNvGrpSpPr/>
              <p:nvPr/>
            </p:nvGrpSpPr>
            <p:grpSpPr>
              <a:xfrm>
                <a:off x="5566680" y="5164560"/>
                <a:ext cx="606240" cy="573480"/>
                <a:chOff x="5566680" y="5164560"/>
                <a:chExt cx="606240" cy="573480"/>
              </a:xfrm>
            </p:grpSpPr>
            <p:sp>
              <p:nvSpPr>
                <p:cNvPr id="905" name="Oval 78"/>
                <p:cNvSpPr/>
                <p:nvPr/>
              </p:nvSpPr>
              <p:spPr>
                <a:xfrm>
                  <a:off x="5566680" y="51645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9"/>
                <p:cNvSpPr/>
                <p:nvPr/>
              </p:nvSpPr>
              <p:spPr>
                <a:xfrm>
                  <a:off x="5635080" y="5174640"/>
                  <a:ext cx="46764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Text Box 80"/>
              <p:cNvSpPr/>
              <p:nvPr/>
            </p:nvSpPr>
            <p:spPr>
              <a:xfrm>
                <a:off x="5699520" y="5193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81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909" name="Group 82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910" name="Oval 83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653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"/>
                <p:cNvSpPr/>
                <p:nvPr/>
              </p:nvSpPr>
              <p:spPr>
                <a:xfrm>
                  <a:off x="2601000" y="3136680"/>
                  <a:ext cx="49104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Text Box 85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13" name="Oval 86"/>
            <p:cNvSpPr/>
            <p:nvPr/>
          </p:nvSpPr>
          <p:spPr>
            <a:xfrm rot="18226800">
              <a:off x="5500440" y="5019480"/>
              <a:ext cx="11880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4" name="Oval 87"/>
            <p:cNvSpPr/>
            <p:nvPr/>
          </p:nvSpPr>
          <p:spPr>
            <a:xfrm rot="18226800">
              <a:off x="5357520" y="48787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15" name="Group 88"/>
            <p:cNvGrpSpPr/>
            <p:nvPr/>
          </p:nvGrpSpPr>
          <p:grpSpPr>
            <a:xfrm>
              <a:off x="3212280" y="3522600"/>
              <a:ext cx="384840" cy="240840"/>
              <a:chOff x="3212280" y="3522600"/>
              <a:chExt cx="384840" cy="240840"/>
            </a:xfrm>
          </p:grpSpPr>
          <p:sp>
            <p:nvSpPr>
              <p:cNvPr id="916" name="Oval 89"/>
              <p:cNvSpPr/>
              <p:nvPr/>
            </p:nvSpPr>
            <p:spPr>
              <a:xfrm rot="18226800">
                <a:off x="3238920" y="3543840"/>
                <a:ext cx="120240" cy="12852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5698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17" name="Oval 90"/>
              <p:cNvSpPr/>
              <p:nvPr/>
            </p:nvSpPr>
            <p:spPr>
              <a:xfrm rot="18226800">
                <a:off x="3450600" y="3613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a59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91"/>
            <p:cNvGrpSpPr/>
            <p:nvPr/>
          </p:nvGrpSpPr>
          <p:grpSpPr>
            <a:xfrm>
              <a:off x="4484520" y="2579400"/>
              <a:ext cx="173160" cy="431280"/>
              <a:chOff x="4484520" y="2579400"/>
              <a:chExt cx="173160" cy="431280"/>
            </a:xfrm>
          </p:grpSpPr>
          <p:sp>
            <p:nvSpPr>
              <p:cNvPr id="919" name="Oval 92"/>
              <p:cNvSpPr/>
              <p:nvPr/>
            </p:nvSpPr>
            <p:spPr>
              <a:xfrm rot="18226800">
                <a:off x="4511160" y="260064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e3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20" name="Oval 93"/>
              <p:cNvSpPr/>
              <p:nvPr/>
            </p:nvSpPr>
            <p:spPr>
              <a:xfrm rot="18226800">
                <a:off x="4511160" y="286092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2533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21" name="Oval 94"/>
            <p:cNvSpPr/>
            <p:nvPr/>
          </p:nvSpPr>
          <p:spPr>
            <a:xfrm rot="18226800">
              <a:off x="5870520" y="3571560"/>
              <a:ext cx="119520" cy="126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Oval 95"/>
            <p:cNvSpPr/>
            <p:nvPr/>
          </p:nvSpPr>
          <p:spPr>
            <a:xfrm rot="18226800">
              <a:off x="5642280" y="3683520"/>
              <a:ext cx="11844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4447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Text Box 96"/>
            <p:cNvSpPr/>
            <p:nvPr/>
          </p:nvSpPr>
          <p:spPr>
            <a:xfrm>
              <a:off x="762120" y="32673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Text Box 97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Text Box 98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Text Box 99"/>
            <p:cNvSpPr/>
            <p:nvPr/>
          </p:nvSpPr>
          <p:spPr>
            <a:xfrm>
              <a:off x="111528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Text Box 100"/>
            <p:cNvSpPr/>
            <p:nvPr/>
          </p:nvSpPr>
          <p:spPr>
            <a:xfrm>
              <a:off x="6202440" y="537552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931" name="AutoShape 4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AutoShape 5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AutoShape 6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4" name="AutoShape 7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5" name="AutoShape 8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AutoShape 9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37" name="Group 10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938" name="Oval 11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39" name="Oval 12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0" name="Oval 13"/>
              <p:cNvSpPr/>
              <p:nvPr/>
            </p:nvSpPr>
            <p:spPr>
              <a:xfrm>
                <a:off x="197820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1" name="Oval 14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42" name="Oval 15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43" name="Text Box 16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Text Box 17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45" name="Group 18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946" name="AutoShape 19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7" name="AutoShape 20"/>
            <p:cNvSpPr/>
            <p:nvPr/>
          </p:nvSpPr>
          <p:spPr>
            <a:xfrm>
              <a:off x="36144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8" name="AutoShape 21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9" name="AutoShape 22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0" name="Oval 23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1" name="Oval 24"/>
            <p:cNvSpPr/>
            <p:nvPr/>
          </p:nvSpPr>
          <p:spPr>
            <a:xfrm>
              <a:off x="4331880" y="1912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2" name="Oval 25"/>
            <p:cNvSpPr/>
            <p:nvPr/>
          </p:nvSpPr>
          <p:spPr>
            <a:xfrm>
              <a:off x="4340160" y="1915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3" name="Oval 26"/>
            <p:cNvSpPr/>
            <p:nvPr/>
          </p:nvSpPr>
          <p:spPr>
            <a:xfrm>
              <a:off x="4346280" y="1922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4" name="Oval 27"/>
            <p:cNvSpPr/>
            <p:nvPr/>
          </p:nvSpPr>
          <p:spPr>
            <a:xfrm>
              <a:off x="4381200" y="1938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5" name="Text Box 28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6" name="Text Box 29"/>
            <p:cNvSpPr/>
            <p:nvPr/>
          </p:nvSpPr>
          <p:spPr>
            <a:xfrm>
              <a:off x="36572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7" name="AutoShape 30"/>
            <p:cNvSpPr/>
            <p:nvPr/>
          </p:nvSpPr>
          <p:spPr>
            <a:xfrm>
              <a:off x="3584160" y="5073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58" name="AutoShape 31"/>
            <p:cNvSpPr/>
            <p:nvPr/>
          </p:nvSpPr>
          <p:spPr>
            <a:xfrm>
              <a:off x="36288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59" name="Group 32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960" name="AutoShape 33"/>
            <p:cNvSpPr/>
            <p:nvPr/>
          </p:nvSpPr>
          <p:spPr>
            <a:xfrm>
              <a:off x="5943240" y="2215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1" name="AutoShape 34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2" name="AutoShape 35"/>
            <p:cNvSpPr/>
            <p:nvPr/>
          </p:nvSpPr>
          <p:spPr>
            <a:xfrm>
              <a:off x="5994000" y="4287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3" name="AutoShape 36"/>
            <p:cNvSpPr/>
            <p:nvPr/>
          </p:nvSpPr>
          <p:spPr>
            <a:xfrm>
              <a:off x="5994000" y="2246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64" name="Group 37"/>
            <p:cNvGrpSpPr/>
            <p:nvPr/>
          </p:nvGrpSpPr>
          <p:grpSpPr>
            <a:xfrm>
              <a:off x="6687720" y="1908000"/>
              <a:ext cx="642960" cy="642960"/>
              <a:chOff x="6687720" y="1908000"/>
              <a:chExt cx="642960" cy="642960"/>
            </a:xfrm>
          </p:grpSpPr>
          <p:sp>
            <p:nvSpPr>
              <p:cNvPr id="965" name="Oval 38"/>
              <p:cNvSpPr/>
              <p:nvPr/>
            </p:nvSpPr>
            <p:spPr>
              <a:xfrm>
                <a:off x="668772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6" name="Oval 39"/>
              <p:cNvSpPr/>
              <p:nvPr/>
            </p:nvSpPr>
            <p:spPr>
              <a:xfrm>
                <a:off x="669420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7" name="Oval 40"/>
              <p:cNvSpPr/>
              <p:nvPr/>
            </p:nvSpPr>
            <p:spPr>
              <a:xfrm>
                <a:off x="6702120" y="1916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8" name="Oval 41"/>
              <p:cNvSpPr/>
              <p:nvPr/>
            </p:nvSpPr>
            <p:spPr>
              <a:xfrm>
                <a:off x="670860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69" name="Oval 42"/>
              <p:cNvSpPr/>
              <p:nvPr/>
            </p:nvSpPr>
            <p:spPr>
              <a:xfrm>
                <a:off x="674244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970" name="Text Box 43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Text Box 44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AutoShape 45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AutoShape 46"/>
            <p:cNvSpPr/>
            <p:nvPr/>
          </p:nvSpPr>
          <p:spPr>
            <a:xfrm>
              <a:off x="598140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Date Placeholder 3"/>
          <p:cNvSpPr/>
          <p:nvPr/>
        </p:nvSpPr>
        <p:spPr>
          <a:xfrm>
            <a:off x="457200" y="6461280"/>
            <a:ext cx="2219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97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98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98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98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8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8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98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99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99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99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99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100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100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0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101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1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101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101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1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102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2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2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102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2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102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103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103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103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3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104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4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104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4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5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5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5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106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064" name="AutoShape 90"/>
            <p:cNvCxnSpPr>
              <a:stCxn id="1060" idx="3"/>
              <a:endCxn id="106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5" name="AutoShape 91"/>
            <p:cNvCxnSpPr>
              <a:stCxn id="1061" idx="3"/>
              <a:endCxn id="106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106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Date Placeholder 3"/>
          <p:cNvSpPr/>
          <p:nvPr/>
        </p:nvSpPr>
        <p:spPr>
          <a:xfrm>
            <a:off x="457200" y="6461280"/>
            <a:ext cx="224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0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1071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7556b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3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1074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5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76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077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1078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1079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0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1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1082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083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4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085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457200" y="6461280"/>
            <a:ext cx="2178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755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5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6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204f3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7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8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0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1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2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3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4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5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6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7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Date Placeholder 3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09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38080" y="2432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Date Placeholder 2"/>
          <p:cNvSpPr/>
          <p:nvPr/>
        </p:nvSpPr>
        <p:spPr>
          <a:xfrm>
            <a:off x="457200" y="64612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http://blogcongdong.com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4" name="Group 2"/>
          <p:cNvGrpSpPr/>
          <p:nvPr/>
        </p:nvGrpSpPr>
        <p:grpSpPr>
          <a:xfrm>
            <a:off x="1325520" y="1531080"/>
            <a:ext cx="6598800" cy="4675680"/>
            <a:chOff x="1325520" y="1531080"/>
            <a:chExt cx="6598800" cy="4675680"/>
          </a:xfrm>
        </p:grpSpPr>
        <p:sp>
          <p:nvSpPr>
            <p:cNvPr id="1115" name="Oval 3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6" name="Oval 4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7" name="Oval 5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Arc 6"/>
            <p:cNvSpPr/>
            <p:nvPr/>
          </p:nvSpPr>
          <p:spPr>
            <a:xfrm rot="20601600">
              <a:off x="4349520" y="2155320"/>
              <a:ext cx="284904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Arc 7"/>
            <p:cNvSpPr/>
            <p:nvPr/>
          </p:nvSpPr>
          <p:spPr>
            <a:xfrm flipH="1" rot="20602200">
              <a:off x="1937880" y="4030560"/>
              <a:ext cx="328068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380a1"/>
                </a:gs>
                <a:gs pos="100000">
                  <a:srgbClr val="77b7e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Arc 8"/>
            <p:cNvSpPr/>
            <p:nvPr/>
          </p:nvSpPr>
          <p:spPr>
            <a:xfrm rot="20601600">
              <a:off x="2946240" y="2201400"/>
              <a:ext cx="322848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f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Arc 9"/>
            <p:cNvSpPr/>
            <p:nvPr/>
          </p:nvSpPr>
          <p:spPr>
            <a:xfrm flipH="1" rot="20602200">
              <a:off x="1594440" y="2795400"/>
              <a:ext cx="285084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5ab7d"/>
                </a:gs>
                <a:gs pos="100000">
                  <a:srgbClr val="204f3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Freeform 10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d6d6d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Arc 11"/>
            <p:cNvSpPr/>
            <p:nvPr/>
          </p:nvSpPr>
          <p:spPr>
            <a:xfrm rot="20539200">
              <a:off x="4732200" y="3087360"/>
              <a:ext cx="272844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Freeform 12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Oval 13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Text Box 14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Text Box 15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Text Box 16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Text Box 17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Text Box 18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Freeform 19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b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Oval 20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AutoShape 3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dbdff"/>
              </a:gs>
              <a:gs pos="100000">
                <a:srgbClr val="9999ff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Text Box 5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39" name="Group 6"/>
          <p:cNvGrpSpPr/>
          <p:nvPr/>
        </p:nvGrpSpPr>
        <p:grpSpPr>
          <a:xfrm>
            <a:off x="1066680" y="4254480"/>
            <a:ext cx="1579680" cy="2069640"/>
            <a:chOff x="1066680" y="4254480"/>
            <a:chExt cx="1579680" cy="2069640"/>
          </a:xfrm>
        </p:grpSpPr>
        <p:grpSp>
          <p:nvGrpSpPr>
            <p:cNvPr id="1140" name="Group 7"/>
            <p:cNvGrpSpPr/>
            <p:nvPr/>
          </p:nvGrpSpPr>
          <p:grpSpPr>
            <a:xfrm>
              <a:off x="1066680" y="4254480"/>
              <a:ext cx="1486080" cy="1514160"/>
              <a:chOff x="1066680" y="4254480"/>
              <a:chExt cx="1486080" cy="1514160"/>
            </a:xfrm>
          </p:grpSpPr>
          <p:grpSp>
            <p:nvGrpSpPr>
              <p:cNvPr id="1141" name="Group 8"/>
              <p:cNvGrpSpPr/>
              <p:nvPr/>
            </p:nvGrpSpPr>
            <p:grpSpPr>
              <a:xfrm>
                <a:off x="1066680" y="4254480"/>
                <a:ext cx="1486080" cy="1514160"/>
                <a:chOff x="1066680" y="4254480"/>
                <a:chExt cx="1486080" cy="1514160"/>
              </a:xfrm>
            </p:grpSpPr>
            <p:sp>
              <p:nvSpPr>
                <p:cNvPr id="1142" name="Oval 9"/>
                <p:cNvSpPr/>
                <p:nvPr/>
              </p:nvSpPr>
              <p:spPr>
                <a:xfrm>
                  <a:off x="106668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c6d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0"/>
                <p:cNvSpPr/>
                <p:nvPr/>
              </p:nvSpPr>
              <p:spPr>
                <a:xfrm>
                  <a:off x="123660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11"/>
              <p:cNvSpPr/>
              <p:nvPr/>
            </p:nvSpPr>
            <p:spPr>
              <a:xfrm>
                <a:off x="122508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45" name="Oval 12"/>
            <p:cNvSpPr/>
            <p:nvPr/>
          </p:nvSpPr>
          <p:spPr>
            <a:xfrm>
              <a:off x="1066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3"/>
          <p:cNvGrpSpPr/>
          <p:nvPr/>
        </p:nvGrpSpPr>
        <p:grpSpPr>
          <a:xfrm>
            <a:off x="2971800" y="4254480"/>
            <a:ext cx="1617480" cy="2069640"/>
            <a:chOff x="2971800" y="4254480"/>
            <a:chExt cx="1617480" cy="2069640"/>
          </a:xfrm>
        </p:grpSpPr>
        <p:grpSp>
          <p:nvGrpSpPr>
            <p:cNvPr id="1147" name="Group 14"/>
            <p:cNvGrpSpPr/>
            <p:nvPr/>
          </p:nvGrpSpPr>
          <p:grpSpPr>
            <a:xfrm>
              <a:off x="2971800" y="4254480"/>
              <a:ext cx="1523880" cy="1520640"/>
              <a:chOff x="2971800" y="4254480"/>
              <a:chExt cx="1523880" cy="1520640"/>
            </a:xfrm>
          </p:grpSpPr>
          <p:sp>
            <p:nvSpPr>
              <p:cNvPr id="1148" name="Oval 15"/>
              <p:cNvSpPr/>
              <p:nvPr/>
            </p:nvSpPr>
            <p:spPr>
              <a:xfrm>
                <a:off x="297180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f4f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49" name="Freeform 16"/>
              <p:cNvSpPr/>
              <p:nvPr/>
            </p:nvSpPr>
            <p:spPr>
              <a:xfrm>
                <a:off x="314676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0" name="Text Box 17"/>
            <p:cNvSpPr/>
            <p:nvPr/>
          </p:nvSpPr>
          <p:spPr>
            <a:xfrm>
              <a:off x="304776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Oval 18"/>
            <p:cNvSpPr/>
            <p:nvPr/>
          </p:nvSpPr>
          <p:spPr>
            <a:xfrm>
              <a:off x="30099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19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1153" name="Group 20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1154" name="Oval 21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d5e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155" name="Freeform 22"/>
              <p:cNvSpPr/>
              <p:nvPr/>
            </p:nvSpPr>
            <p:spPr>
              <a:xfrm>
                <a:off x="520344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56" name="Text Box 23"/>
            <p:cNvSpPr/>
            <p:nvPr/>
          </p:nvSpPr>
          <p:spPr>
            <a:xfrm>
              <a:off x="510516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Oval 24"/>
            <p:cNvSpPr/>
            <p:nvPr/>
          </p:nvSpPr>
          <p:spPr>
            <a:xfrm>
              <a:off x="5081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5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1159" name="Group 26"/>
            <p:cNvGrpSpPr/>
            <p:nvPr/>
          </p:nvGrpSpPr>
          <p:grpSpPr>
            <a:xfrm>
              <a:off x="6934320" y="4210200"/>
              <a:ext cx="1523880" cy="1531440"/>
              <a:chOff x="6934320" y="4210200"/>
              <a:chExt cx="1523880" cy="1531440"/>
            </a:xfrm>
          </p:grpSpPr>
          <p:grpSp>
            <p:nvGrpSpPr>
              <p:cNvPr id="1160" name="Group 27"/>
              <p:cNvGrpSpPr/>
              <p:nvPr/>
            </p:nvGrpSpPr>
            <p:grpSpPr>
              <a:xfrm>
                <a:off x="6934320" y="4210200"/>
                <a:ext cx="1523880" cy="1531440"/>
                <a:chOff x="6934320" y="4210200"/>
                <a:chExt cx="1523880" cy="1531440"/>
              </a:xfrm>
            </p:grpSpPr>
            <p:sp>
              <p:nvSpPr>
                <p:cNvPr id="1161" name="Oval 28"/>
                <p:cNvSpPr/>
                <p:nvPr/>
              </p:nvSpPr>
              <p:spPr>
                <a:xfrm>
                  <a:off x="693432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29"/>
                <p:cNvSpPr/>
                <p:nvPr/>
              </p:nvSpPr>
              <p:spPr>
                <a:xfrm>
                  <a:off x="710856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Text Box 30"/>
              <p:cNvSpPr/>
              <p:nvPr/>
            </p:nvSpPr>
            <p:spPr>
              <a:xfrm>
                <a:off x="7077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164" name="Oval 31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2" name="Group 41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653" name="AutoShape 42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4" name="AutoShape 43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Text Box 44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6" name="Text Box 45"/>
            <p:cNvSpPr/>
            <p:nvPr/>
          </p:nvSpPr>
          <p:spPr>
            <a:xfrm>
              <a:off x="25182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57" name="Group 46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658" name="AutoShape 47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9" name="AutoShape 48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2518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2" name="Group 51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663" name="AutoShape 52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4" name="AutoShape 53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5" name="Text Box 54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6" name="Text Box 55"/>
            <p:cNvSpPr/>
            <p:nvPr/>
          </p:nvSpPr>
          <p:spPr>
            <a:xfrm>
              <a:off x="2518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67" name="Group 56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668" name="AutoShape 57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69" name="AutoShape 58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0" name="Text Box 59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1" name="Text Box 60"/>
            <p:cNvSpPr/>
            <p:nvPr/>
          </p:nvSpPr>
          <p:spPr>
            <a:xfrm>
              <a:off x="25182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2438280" y="32767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WordArt 5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347d"/>
                    </a:gs>
                    <a:gs pos="100000">
                      <a:srgbClr val="99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347d"/>
                  </a:gs>
                  <a:gs pos="100000">
                    <a:srgbClr val="99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ab7d"/>
              </a:gs>
              <a:gs pos="100000">
                <a:srgbClr val="89caa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8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8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68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68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68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7556b"/>
                </a:gs>
                <a:gs pos="100000">
                  <a:srgbClr val="77b7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0"/>
                  </a:srgbClr>
                </a:gs>
                <a:gs pos="100000">
                  <a:srgbClr val="d0e6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e91b7"/>
                </a:gs>
                <a:gs pos="100000">
                  <a:srgbClr val="77b7e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b7e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92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697" name="Freeform 4"/>
            <p:cNvSpPr/>
            <p:nvPr/>
          </p:nvSpPr>
          <p:spPr>
            <a:xfrm rot="20241600">
              <a:off x="140904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1f1f1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 rot="20056200">
              <a:off x="7180560" y="281196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 rot="20056200">
              <a:off x="3031560" y="547344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 rot="20056200">
              <a:off x="5614920" y="4899240"/>
              <a:ext cx="1095480" cy="3128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3904560" y="19512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608120" y="330480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Oval 12"/>
            <p:cNvSpPr/>
            <p:nvPr/>
          </p:nvSpPr>
          <p:spPr>
            <a:xfrm>
              <a:off x="2414160" y="4811760"/>
              <a:ext cx="11707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93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Oval 13"/>
            <p:cNvSpPr/>
            <p:nvPr/>
          </p:nvSpPr>
          <p:spPr>
            <a:xfrm>
              <a:off x="4950000" y="425232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Oval 14"/>
            <p:cNvSpPr/>
            <p:nvPr/>
          </p:nvSpPr>
          <p:spPr>
            <a:xfrm>
              <a:off x="6619680" y="2153160"/>
              <a:ext cx="110880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Text Box 15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Text Box 16"/>
            <p:cNvSpPr/>
            <p:nvPr/>
          </p:nvSpPr>
          <p:spPr>
            <a:xfrm>
              <a:off x="421704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Text Box 17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1" name="Text Box 18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2" name="Text Box 19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Text Box 20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715" name="AutoShape 22"/>
            <p:cNvCxnSpPr/>
            <p:nvPr/>
          </p:nvCxnSpPr>
          <p:spPr>
            <a:xfrm flipH="1">
              <a:off x="889920" y="2356920"/>
              <a:ext cx="1773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716" name="Text Box 23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9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720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2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04f3a"/>
                </a:gs>
                <a:gs pos="50000">
                  <a:srgbClr val="45ab7d"/>
                </a:gs>
                <a:gs pos="100000">
                  <a:srgbClr val="204f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741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742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3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4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fc3e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5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6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7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99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8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49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38a"/>
                  </a:gs>
                  <a:gs pos="50000">
                    <a:srgbClr val="9999ff"/>
                  </a:gs>
                  <a:gs pos="100000">
                    <a:srgbClr val="53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50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751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2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3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4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5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6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7556b"/>
                </a:gs>
                <a:gs pos="50000">
                  <a:srgbClr val="77b7e7"/>
                </a:gs>
                <a:gs pos="100000">
                  <a:srgbClr val="3755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56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768" name="Group 35"/>
            <p:cNvGrpSpPr/>
            <p:nvPr/>
          </p:nvGrpSpPr>
          <p:grpSpPr>
            <a:xfrm>
              <a:off x="1828800" y="1752480"/>
              <a:ext cx="5334120" cy="1225800"/>
              <a:chOff x="1828800" y="1752480"/>
              <a:chExt cx="5334120" cy="1225800"/>
            </a:xfrm>
          </p:grpSpPr>
          <p:sp>
            <p:nvSpPr>
              <p:cNvPr id="769" name="AutoShape 36"/>
              <p:cNvSpPr/>
              <p:nvPr/>
            </p:nvSpPr>
            <p:spPr>
              <a:xfrm>
                <a:off x="1828800" y="1752480"/>
                <a:ext cx="5334120" cy="122580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0" name="Group 37"/>
              <p:cNvGrpSpPr/>
              <p:nvPr/>
            </p:nvGrpSpPr>
            <p:grpSpPr>
              <a:xfrm>
                <a:off x="1945080" y="1865160"/>
                <a:ext cx="1028160" cy="1002600"/>
                <a:chOff x="1945080" y="1865160"/>
                <a:chExt cx="1028160" cy="1002600"/>
              </a:xfrm>
            </p:grpSpPr>
            <p:sp>
              <p:nvSpPr>
                <p:cNvPr id="771" name="AutoShape 38"/>
                <p:cNvSpPr/>
                <p:nvPr/>
              </p:nvSpPr>
              <p:spPr>
                <a:xfrm>
                  <a:off x="1945080" y="1865160"/>
                  <a:ext cx="1028160" cy="1002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380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9"/>
                <p:cNvSpPr/>
                <p:nvPr/>
              </p:nvSpPr>
              <p:spPr>
                <a:xfrm>
                  <a:off x="2009160" y="1929600"/>
                  <a:ext cx="51264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5d8f2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5d8f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40"/>
                <p:cNvSpPr/>
                <p:nvPr/>
              </p:nvSpPr>
              <p:spPr>
                <a:xfrm>
                  <a:off x="2021760" y="21380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41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42"/>
            <p:cNvGrpSpPr/>
            <p:nvPr/>
          </p:nvGrpSpPr>
          <p:grpSpPr>
            <a:xfrm>
              <a:off x="1828800" y="3193560"/>
              <a:ext cx="5334120" cy="1226160"/>
              <a:chOff x="1828800" y="3193560"/>
              <a:chExt cx="5334120" cy="1226160"/>
            </a:xfrm>
          </p:grpSpPr>
          <p:sp>
            <p:nvSpPr>
              <p:cNvPr id="776" name="AutoShape 43"/>
              <p:cNvSpPr/>
              <p:nvPr/>
            </p:nvSpPr>
            <p:spPr>
              <a:xfrm>
                <a:off x="1828800" y="319356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77" name="Group 44"/>
              <p:cNvGrpSpPr/>
              <p:nvPr/>
            </p:nvGrpSpPr>
            <p:grpSpPr>
              <a:xfrm>
                <a:off x="1945080" y="3306240"/>
                <a:ext cx="1028160" cy="1002960"/>
                <a:chOff x="1945080" y="3306240"/>
                <a:chExt cx="1028160" cy="1002960"/>
              </a:xfrm>
            </p:grpSpPr>
            <p:sp>
              <p:nvSpPr>
                <p:cNvPr id="778" name="AutoShape 45"/>
                <p:cNvSpPr/>
                <p:nvPr/>
              </p:nvSpPr>
              <p:spPr>
                <a:xfrm>
                  <a:off x="1945080" y="330624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6"/>
                <p:cNvSpPr/>
                <p:nvPr/>
              </p:nvSpPr>
              <p:spPr>
                <a:xfrm>
                  <a:off x="2009160" y="337068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47"/>
                <p:cNvSpPr/>
                <p:nvPr/>
              </p:nvSpPr>
              <p:spPr>
                <a:xfrm>
                  <a:off x="2021760" y="35805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48"/>
              <p:cNvSpPr/>
              <p:nvPr/>
            </p:nvSpPr>
            <p:spPr>
              <a:xfrm>
                <a:off x="3114000" y="336132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49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783" name="AutoShape 50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784" name="Group 51"/>
              <p:cNvGrpSpPr/>
              <p:nvPr/>
            </p:nvGrpSpPr>
            <p:grpSpPr>
              <a:xfrm>
                <a:off x="1945080" y="4756680"/>
                <a:ext cx="1028160" cy="1002960"/>
                <a:chOff x="1945080" y="4756680"/>
                <a:chExt cx="1028160" cy="1002960"/>
              </a:xfrm>
            </p:grpSpPr>
            <p:sp>
              <p:nvSpPr>
                <p:cNvPr id="785" name="AutoShape 52"/>
                <p:cNvSpPr/>
                <p:nvPr/>
              </p:nvSpPr>
              <p:spPr>
                <a:xfrm>
                  <a:off x="1945080" y="4756680"/>
                  <a:ext cx="102816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9caac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3"/>
                <p:cNvSpPr/>
                <p:nvPr/>
              </p:nvSpPr>
              <p:spPr>
                <a:xfrm>
                  <a:off x="2009160" y="4822200"/>
                  <a:ext cx="512640" cy="5014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d6c0"/>
                    </a:gs>
                    <a:gs pos="100000">
                      <a:srgbClr val="45ab7d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54"/>
                <p:cNvSpPr/>
                <p:nvPr/>
              </p:nvSpPr>
              <p:spPr>
                <a:xfrm>
                  <a:off x="2021760" y="50320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5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oter Placeholder 3"/>
          <p:cNvSpPr/>
          <p:nvPr/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91" name="Group 18"/>
          <p:cNvGrpSpPr/>
          <p:nvPr/>
        </p:nvGrpSpPr>
        <p:grpSpPr>
          <a:xfrm>
            <a:off x="1625400" y="989280"/>
            <a:ext cx="5479920" cy="5148720"/>
            <a:chOff x="1625400" y="989280"/>
            <a:chExt cx="5479920" cy="5148720"/>
          </a:xfrm>
        </p:grpSpPr>
        <p:sp>
          <p:nvSpPr>
            <p:cNvPr id="792" name="Freeform 19"/>
            <p:cNvSpPr/>
            <p:nvPr/>
          </p:nvSpPr>
          <p:spPr>
            <a:xfrm rot="20805000">
              <a:off x="4592160" y="2723760"/>
              <a:ext cx="1150560" cy="33148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47ec4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 rot="5461200">
              <a:off x="2798640" y="2275200"/>
              <a:ext cx="1150200" cy="33159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 rot="14128200">
              <a:off x="4650120" y="744480"/>
              <a:ext cx="1150200" cy="331740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795" name="Group 22"/>
            <p:cNvGrpSpPr/>
            <p:nvPr/>
          </p:nvGrpSpPr>
          <p:grpSpPr>
            <a:xfrm>
              <a:off x="1625400" y="1495440"/>
              <a:ext cx="5479920" cy="4642560"/>
              <a:chOff x="1625400" y="1495440"/>
              <a:chExt cx="5479920" cy="4642560"/>
            </a:xfrm>
          </p:grpSpPr>
          <p:sp>
            <p:nvSpPr>
              <p:cNvPr id="796" name="Freeform 23"/>
              <p:cNvSpPr/>
              <p:nvPr/>
            </p:nvSpPr>
            <p:spPr>
              <a:xfrm>
                <a:off x="4394880" y="2823120"/>
                <a:ext cx="1150560" cy="33148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7" name="Freeform 24"/>
              <p:cNvSpPr/>
              <p:nvPr/>
            </p:nvSpPr>
            <p:spPr>
              <a:xfrm rot="6256200">
                <a:off x="2799000" y="212220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798" name="Freeform 25"/>
              <p:cNvSpPr/>
              <p:nvPr/>
            </p:nvSpPr>
            <p:spPr>
              <a:xfrm rot="14922600">
                <a:off x="4776480" y="974520"/>
                <a:ext cx="114984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26"/>
            <p:cNvGrpSpPr/>
            <p:nvPr/>
          </p:nvGrpSpPr>
          <p:grpSpPr>
            <a:xfrm>
              <a:off x="3884400" y="2787120"/>
              <a:ext cx="1339560" cy="1337400"/>
              <a:chOff x="3884400" y="2787120"/>
              <a:chExt cx="1339560" cy="1337400"/>
            </a:xfrm>
          </p:grpSpPr>
          <p:sp>
            <p:nvSpPr>
              <p:cNvPr id="800" name="Oval 27"/>
              <p:cNvSpPr/>
              <p:nvPr/>
            </p:nvSpPr>
            <p:spPr>
              <a:xfrm>
                <a:off x="3884400" y="2787120"/>
                <a:ext cx="1339560" cy="133740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801" name="Freeform 28"/>
              <p:cNvSpPr/>
              <p:nvPr/>
            </p:nvSpPr>
            <p:spPr>
              <a:xfrm>
                <a:off x="4037400" y="2809080"/>
                <a:ext cx="1033200" cy="504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802" name="Text Box 29"/>
            <p:cNvSpPr/>
            <p:nvPr/>
          </p:nvSpPr>
          <p:spPr>
            <a:xfrm>
              <a:off x="4079520" y="32774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3" name="Text Box 30"/>
            <p:cNvSpPr/>
            <p:nvPr/>
          </p:nvSpPr>
          <p:spPr>
            <a:xfrm>
              <a:off x="1964880" y="2977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4" name="Text Box 31"/>
            <p:cNvSpPr/>
            <p:nvPr/>
          </p:nvSpPr>
          <p:spPr>
            <a:xfrm>
              <a:off x="5160600" y="21488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5" name="Text Box 32"/>
            <p:cNvSpPr/>
            <p:nvPr/>
          </p:nvSpPr>
          <p:spPr>
            <a:xfrm>
              <a:off x="3495240" y="46994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08:10Z</dcterms:created>
  <dc:creator>Admin</dc:creator>
  <dc:description/>
  <dc:language>en-US</dc:language>
  <cp:lastModifiedBy>Anh Hung Pro</cp:lastModifiedBy>
  <dcterms:modified xsi:type="dcterms:W3CDTF">2016-09-06T16:27:05Z</dcterms:modified>
  <cp:revision>2</cp:revision>
  <dc:subject/>
  <dc:title>PowerPoint Template</dc:title>
</cp:coreProperties>
</file>